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0831-68C7-4B88-BC71-5DE4D747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DD5E-51B0-4EB6-833D-228BC8D1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0ED3-D624-4738-8318-074D1F1E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DABE-5F15-42B2-8016-30456419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D5B7-576B-4611-A3EE-7A31D2DF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AEC4-AC27-4EC0-8EAC-5CB6FF86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898C-0367-48F5-9314-35F704FC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C0A5-8231-42AD-975C-3826ED6A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E4D5-B63B-44E9-AA9C-F578A66B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AE35-A8D8-403C-A731-00D97AF3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BBD5-BB8F-401A-8F92-8E212984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1FD9-AE01-4359-92BB-F775860B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8DB2-648A-4656-A768-27AAD187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A3A0-93AC-4B03-9663-9EA34E31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F9CC-C704-4E14-BB33-83CDF016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FC1C-4404-4921-B985-388F7C0F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6E1F-12C4-47CD-896B-9E5F7536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24409-94D0-45F8-8A63-93D26179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257BB-B2C1-4178-9368-F4253945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6C603-CFB5-47ED-B2F0-DD18E10C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352E4-152B-49C9-8392-87D5510E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3AD2D-57CB-47AD-A36B-FDB62882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8066-9ADA-4502-A8D5-76AD4173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C06D2-459C-4C90-9A24-3E311024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DDB87-EE34-43AD-969A-8C007A1F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1D151-8080-4EFB-8A9C-A8BAE29B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490AA-9285-46FC-851A-A63486FF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1ADD8-5448-40CA-8838-54FE4F56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0893A-1629-4EBF-AF0E-06243002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BAEB2-E327-4199-AAD3-428645B3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D21D2-97B5-4566-A9CF-403C24EB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B9F93-661D-4B35-AE77-8E7FBB14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7A1A1-CC1C-4BD6-9C82-820314AD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750E-0C58-4211-9C42-662BAF1A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A7594-EFFA-4C7E-BE96-D2FE8D24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4174D-46E2-4CAC-84C5-2F478A5D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3C662-2E30-4416-971C-DD042479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9CFC6-E81D-4438-B6D8-6D213139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CA3D9-8853-4DBC-937C-52FBB481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F7EA3-5E87-436F-A9E0-44E6D4E7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CC4E7-76F0-45D3-A2B9-564C4607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AAC4C-18A3-4E75-AE02-DC823D56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B03B1-66A1-41C8-8DFE-B4BEAC94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DF85C-851E-4655-AB1C-57A28EFF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FC13-FD95-4F1B-AAB4-0EECDD8E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7ECFA-D410-4166-8DCA-F0DC2A5D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008BA-C348-4F4A-B679-744D5276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60A4B-98B2-4B78-B70E-F3614F36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78D55-3179-478B-A9D8-FC2F54BB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29BF2-131B-48F1-B5DE-5EC064AA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7BC97-16E8-4281-B45B-87B63B95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7B4B0-E9A6-49D9-9F8C-EF86003F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F257C-6AA9-4A4E-8E19-0D59B585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909CB-35BF-4DB6-9D38-64D3C759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C0475-7E35-4DD1-82F8-3BD43C06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7DF5-4E7B-4A3F-A494-62C5DD03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4073E-2273-4E53-88F2-9BEED450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43E30-9410-4F81-A7F8-E6BB77C1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51DBB-E390-4119-B827-A16C720D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C7025-DFDA-44FB-B0C2-2EF3F31B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ED59C-83D0-4C7C-8145-C4B63363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0EEA6-4A2D-4521-9480-71A1871D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A1ED6-74AF-4EB5-B161-087C8C00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A67DB-46DE-44AC-B1A5-555F9056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D8591-2BB4-4AB2-B2DE-34417523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75A1A-146F-43A5-BB01-BFD71A30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2644-A2BA-4306-B207-8AE943FF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B59E5-F332-4D49-AF7F-1063E146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A31F1-2A5C-480B-AB37-35B52344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B4795-3FBE-4546-AE19-8C5D1E57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1ECB-326D-42D4-AFD7-6708995A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8A56-1D91-4774-A7AB-94B8398F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9B17-E0D8-4C35-A0A7-0AC239F10BA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8EC8-E0E7-44CE-A3A9-DFDAEAA7A6B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83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4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1C56-F6AE-4A90-ACC2-D30E377033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F844-8FC8-4078-98F0-D556BD16BEB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1BC5-50DE-4D46-ACE7-E52623BB17D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261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62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4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7ACB-C16D-48FC-80AF-85345C286306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7;&#1090;&#1077;&#1082;&#1090;&#1086;&#1088;&#1085;&#1099;&#1081;_&#1087;&#1088;&#1080;&#1105;&#1084;&#1085;&#1080;&#1082;" TargetMode="External"/><Relationship Id="rId2" Type="http://schemas.openxmlformats.org/officeDocument/2006/relationships/hyperlink" Target="http://ru.wikipedia.org/wiki/&#1044;&#1077;&#1090;&#1077;&#1082;&#1090;&#1086;&#1088;&#1085;&#1099;&#1081;_&#1087;&#1088;&#1080;&#1105;&#1084;&#1085;&#1080;&#1082;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7772400" cy="20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00"/>
                </a:solidFill>
                <a:latin typeface="Arial"/>
              </a:rPr>
              <a:t>Детекторный приёмник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142640" y="3857760"/>
            <a:ext cx="604188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3300"/>
                </a:solidFill>
                <a:uFillTx/>
                <a:latin typeface="Times New Roman"/>
              </a:rPr>
              <a:t>Авторы:Меринова А.П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0" y="285840"/>
            <a:ext cx="807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кола №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714760" y="50720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Times New Roman"/>
              </a:rPr>
              <a:t>Руководитель:Горчаков Д.А.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Проблемный вопрос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адиоприемник без питания!!! Реально это или нет?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Цели исследования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Узнать, возможна ли работа радиоприемника без питания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Практически собрать схему детекторного приёмника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Ход исследования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14200" y="9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3300"/>
                </a:solidFill>
                <a:uFillTx/>
                <a:latin typeface="Times New Roman"/>
              </a:rPr>
              <a:t>Дете́кторный приёмник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— самый простой, базовый, вид радиоприёмника. Состоит из колебательного контура, к которому подключены антенна и заземление, и диодного (в более раннем варианте кристаллического) детектора, выполняющего демодуляцию амплитудно-модулированного сигнала. Сигнал звуковой частоты с выхода детектора, как правило, воспроизводится высокоомными наушниками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Схема простейшего детекторного приёмника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1285920" y="1785960"/>
            <a:ext cx="587988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Из чего же состоит детекторный радиоприемник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Он состоит из антенны и заземления подключённых к колебательному контуру из катушки L1 и перестраиваемого конденсатора C1, диодного детектора на диоде VD1, фильтра нижних частот, образованного C2 и сопротивлением наушников BF1, и самих наушников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Недостатки и достоинства приемника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Даже для приёма мощных радиостанций детекторный приёмник требует антенны длиной в несколько метров, а также правильного заземления. Единственное важное достоинство детекторного приёмника — он совершенно не требует внешнего питания и может быть собран из подручных средств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4143240"/>
            <a:ext cx="792972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В исследуемой работе я узнала что существуют радиоприемники не требующие внешнего питания. Тщательно изучив его, мне удалось собрать детекторный радиоприемник.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2071800" y="785880"/>
            <a:ext cx="43797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Используемые материал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99"/>
                </a:solidFill>
                <a:uFillTx/>
                <a:latin typeface="Times New Roman"/>
                <a:hlinkClick r:id="rId1"/>
              </a:rPr>
              <a:t>http://ru.wikipedia.org/wiki/</a:t>
            </a:r>
            <a:r>
              <a:rPr b="0" lang="ru-RU" sz="3200" spc="-1" strike="noStrike" u="sng">
                <a:solidFill>
                  <a:srgbClr val="ff9999"/>
                </a:solidFill>
                <a:uFillTx/>
                <a:latin typeface="Times New Roman"/>
                <a:hlinkClick r:id="rId2"/>
              </a:rPr>
              <a:t>Детекторный_приёмник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Батраков А.Д. и Кин С. Элементарная радиотехника (ч. 1. Детекторные приемники). 1951г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4:39:01Z</dcterms:created>
  <dc:creator>Helena</dc:creator>
  <dc:description/>
  <dc:language>en-US</dc:language>
  <cp:lastModifiedBy>24086</cp:lastModifiedBy>
  <dcterms:modified xsi:type="dcterms:W3CDTF">2010-05-22T05:29:00Z</dcterms:modified>
  <cp:revision>70</cp:revision>
  <dc:subject/>
  <dc:title>Слайд 1</dc:title>
</cp:coreProperties>
</file>